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5.jpeg" ContentType="image/jpeg"/>
  <Override PartName="/ppt/media/image41.wmf" ContentType="image/x-wmf"/>
  <Override PartName="/ppt/media/image8.jpeg" ContentType="image/jpeg"/>
  <Override PartName="/ppt/media/image39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713-ECC9-49A2-B810-77BDFBFF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B14-FA4B-4614-A8B9-CFC36032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602-A54B-4FC8-B5EB-BEDE0D98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C78-A1FB-4939-8AA4-78D1B436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A65-C513-4A79-9A30-28881E5B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0F9-56FF-45DF-A798-B4F8D8A8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200-B38A-4CE1-AA41-665D946A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2E3-D77E-4603-8138-ED0A0FF7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BCC-53C5-4B25-9732-6243B8E7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006-79D2-421D-A12B-175BC99D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C0B-75C8-400D-8457-BD26A149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DEF-CCEF-4397-9156-DAAF652B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d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52C4-D00A-4538-B12E-8214887A5D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rachtenberga@bethel.k12.ct.us" TargetMode="External"/><Relationship Id="rId2" Type="http://schemas.openxmlformats.org/officeDocument/2006/relationships/hyperlink" Target="mailto:trachtenberga@bethel.k12.ct.us" TargetMode="External"/><Relationship Id="rId3" Type="http://schemas.openxmlformats.org/officeDocument/2006/relationships/hyperlink" Target="mailto:trachtenberga@bethel.k12.ct.us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6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hyperlink" Target="http://upload.wikimedia.org/wikipedia/commons/3/37/Versailles_Chapel_-_July_2006_edit.jpg" TargetMode="External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hyperlink" Target="http://upload.wikimedia.org/wikipedia/commons/d/d3/PlazaMayorMadrid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berryz-kobo-international.com/blog/wp-pics/mona_lisa.jpg" TargetMode="External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312408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 EXPERIENCE OF A LIFETIM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Fairfield Ludlowe Group Leader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viane Grebert &amp; Ed Smi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elephone:</a:t>
            </a:r>
            <a:r>
              <a:rPr b="1" lang="fr-CA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(203)255-72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mail: </a:t>
            </a:r>
            <a:r>
              <a:rPr b="1" lang="es-ES_tradnl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grebert@fairfield.k12.ct.us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//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esmith4@fairfield.k12.ct.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Joel Barlow Group Leader: Sandi Van Ausd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elephone:</a:t>
            </a:r>
            <a:r>
              <a:rPr b="1" lang="fr-CA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(203)938-25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mail: </a:t>
            </a:r>
            <a:r>
              <a:rPr b="1" lang="es-ES_tradnl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vanausdal@region9ps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066680" y="1828800"/>
            <a:ext cx="7239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1f497d"/>
                </a:solidFill>
                <a:latin typeface="Calibri"/>
              </a:rPr>
              <a:t>BIENVENUE / WEL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1f497d"/>
                </a:solidFill>
                <a:latin typeface="Calibri"/>
              </a:rPr>
              <a:t>PARENTS &amp;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Prometour Banner (original).bmp"/>
          <p:cNvPicPr/>
          <p:nvPr/>
        </p:nvPicPr>
        <p:blipFill>
          <a:blip r:embed="rId4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TINE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21337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1f497d"/>
                </a:solidFill>
                <a:latin typeface="Calibri"/>
              </a:rPr>
              <a:t>PA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4419720" y="57150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Arc du Triomp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http://lrd.yahooapis.com/_ylc=X3oDMTVjMDE1cDU3BF9TAzIwMjMxNTI3MDIEYXBwaWQDT05XMUVsclYzNEVNZFNyWDVaTFcyNmZWcTZITlBqREF6T2dZWGtwZjRmUXZZdmdNQUZIVE5Uc05fdDZ1MUFMM0d0ajYEY2xpZW50A2Jvc3MEc2VydmljZQNCT1NTBHNsawN0aXRsZQRzcmNwdmlkA2pBTG41R0tJY3JvX0toNGsuclA4WXpGWFEuUUxCVXlzbmFvQUEwU2I-/SIG=124vnjvnb/**http%3A/www.purityspring.com/images/sleighrides/sleighides-3.jpg"/>
          <p:cNvPicPr/>
          <p:nvPr/>
        </p:nvPicPr>
        <p:blipFill>
          <a:blip r:embed="rId2"/>
          <a:stretch/>
        </p:blipFill>
        <p:spPr>
          <a:xfrm>
            <a:off x="4419720" y="1828800"/>
            <a:ext cx="2214360" cy="17193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6" name="TextBox 6"/>
          <p:cNvSpPr/>
          <p:nvPr/>
        </p:nvSpPr>
        <p:spPr>
          <a:xfrm>
            <a:off x="5257800" y="3581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Bateau Mou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4419720" y="4038480"/>
            <a:ext cx="2209680" cy="160020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sp>
        <p:nvSpPr>
          <p:cNvPr id="108" name="TextBox 6"/>
          <p:cNvSpPr/>
          <p:nvPr/>
        </p:nvSpPr>
        <p:spPr>
          <a:xfrm>
            <a:off x="2895480" y="46483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Musée D’Or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upload.wikimedia.org/wikipedia/commons/thumb/d/d3/PlazaMayorMadrid.JPG/220px-PlazaMayorMadrid.JPG"/>
          <p:cNvPicPr/>
          <p:nvPr/>
        </p:nvPicPr>
        <p:blipFill>
          <a:blip r:embed="rId4"/>
          <a:stretch/>
        </p:blipFill>
        <p:spPr>
          <a:xfrm>
            <a:off x="6934320" y="2133720"/>
            <a:ext cx="2057400" cy="3124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0" name="TextBox 6"/>
          <p:cNvSpPr/>
          <p:nvPr/>
        </p:nvSpPr>
        <p:spPr>
          <a:xfrm>
            <a:off x="7086600" y="52578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Eiffell T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File:PlazaMayorMadrid.JPG"/>
          <p:cNvPicPr/>
          <p:nvPr/>
        </p:nvPicPr>
        <p:blipFill>
          <a:blip r:embed="rId5"/>
          <a:stretch/>
        </p:blipFill>
        <p:spPr>
          <a:xfrm>
            <a:off x="533520" y="2590920"/>
            <a:ext cx="3276360" cy="1981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2" name="Picture 2" descr="http://thm-a02.yimg.com/nimage/def292c29b44e0a8"/>
          <p:cNvPicPr/>
          <p:nvPr/>
        </p:nvPicPr>
        <p:blipFill>
          <a:blip r:embed="rId6"/>
          <a:stretch/>
        </p:blipFill>
        <p:spPr>
          <a:xfrm>
            <a:off x="380880" y="4952880"/>
            <a:ext cx="2133720" cy="15890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3352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ODS OF F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"/>
          <p:cNvSpPr/>
          <p:nvPr/>
        </p:nvSpPr>
        <p:spPr>
          <a:xfrm>
            <a:off x="3276720" y="6248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French Past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6324480" y="2286000"/>
            <a:ext cx="2409840" cy="180648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sp>
        <p:nvSpPr>
          <p:cNvPr id="117" name="TextBox 8"/>
          <p:cNvSpPr/>
          <p:nvPr/>
        </p:nvSpPr>
        <p:spPr>
          <a:xfrm>
            <a:off x="380880" y="62485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rthillon Ice C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6324480" y="4114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oiss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9" descr="http://lrd.yahooapis.com/_ylc=X3oDMTVjcXZrbWpoBF9TAzIwMjMxNTI3MDIEYXBwaWQDT05XMUVsclYzNEVNZFNyWDVaTFcyNmZWcTZITlBqREF6T2dZWGtwZjRmUXZZdmdNQUZIVE5Uc05fdDZ1MUFMM0d0ajYEY2xpZW50A2Jvc3MEc2VydmljZQNCT1NTBHNsawN0aXRsZQRzcmNwdmlkA0VURFo5a2dlQXUxMncyQTl5YU52VGhyZlEuUUxCRXlzc05zQUJoemE-/SIG=126u1ql35/**http%3A/www.lifefamilytraining.com/training/img/ice_fishing_lg.jpg"/>
          <p:cNvPicPr/>
          <p:nvPr/>
        </p:nvPicPr>
        <p:blipFill>
          <a:blip r:embed="rId3"/>
          <a:stretch/>
        </p:blipFill>
        <p:spPr>
          <a:xfrm>
            <a:off x="3276720" y="2319480"/>
            <a:ext cx="2706480" cy="18046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0" name="TextBox 6"/>
          <p:cNvSpPr/>
          <p:nvPr/>
        </p:nvSpPr>
        <p:spPr>
          <a:xfrm>
            <a:off x="380880" y="41148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fé Au la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http://lrd.yahooapis.com/_ylc=X3oDMTVjc3ZjZGlqBF9TAzIwMjMxNTI3MDIEYXBwaWQDT05XMUVsclYzNEVNZFNyWDVaTFcyNmZWcTZITlBqREF6T2dZWGtwZjRmUXZZdmdNQUZIVE5Uc05fdDZ1MUFMM0d0ajYEY2xpZW50A2Jvc3MEc2VydmljZQNCT1NTBHNsawN0aXRsZQRzcmNwdmlkA01hcFJuRWdlQXUxUm9GZ1BwOURSTEpTZDBDdmVLMHl0OUJzQUMwd3c-/SIG=122hq0829/**http%3A/farm5.static.flickr.com/4011/4313309101_e12cd30e53.jpg"/>
          <p:cNvPicPr/>
          <p:nvPr/>
        </p:nvPicPr>
        <p:blipFill>
          <a:blip r:embed="rId4"/>
          <a:stretch/>
        </p:blipFill>
        <p:spPr>
          <a:xfrm>
            <a:off x="380880" y="4495680"/>
            <a:ext cx="2590920" cy="1733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2" name="TextBox 6"/>
          <p:cNvSpPr/>
          <p:nvPr/>
        </p:nvSpPr>
        <p:spPr>
          <a:xfrm>
            <a:off x="3276720" y="41148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e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8077320" y="6172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Baguet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www.campusconfidant.com/wp-content/uploads/2010/02/Cafe-au-lait.jpg"/>
          <p:cNvPicPr/>
          <p:nvPr/>
        </p:nvPicPr>
        <p:blipFill>
          <a:blip r:embed="rId5"/>
          <a:stretch/>
        </p:blipFill>
        <p:spPr>
          <a:xfrm>
            <a:off x="380880" y="2286000"/>
            <a:ext cx="2586240" cy="1801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5" name="Picture 3" descr="baguettes"/>
          <p:cNvPicPr/>
          <p:nvPr/>
        </p:nvPicPr>
        <p:blipFill>
          <a:blip r:embed="rId6"/>
          <a:stretch/>
        </p:blipFill>
        <p:spPr>
          <a:xfrm>
            <a:off x="6400800" y="4419720"/>
            <a:ext cx="1676520" cy="2057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6" name="Picture 5" descr="http://lrd.yahooapis.com/_ylc=X3oDMTVjbDFpN282BF9TAzIwMjMxNTI3MDIEYXBwaWQDT05XMUVsclYzNEVNZFNyWDVaTFcyNmZWcTZITlBqREF6T2dZWGtwZjRmUXZZdmdNQUZIVE5Uc05fdDZ1MUFMM0d0ajYEY2xpZW50A2Jvc3MEc2VydmljZQNCT1NTBHNsawN0aXRsZQRzcmNwdmlkA2JaSkNrVWdlQXUwRlVHa1BaNWE4VFlKN1EuUklIVXl1Tk93QUJ0VUE-/SIG=12ipjgqsj/**http%3A/www.frielfoto.com/France/LoireValley/IMG_0917-French%2520Pasteries.jpg"/>
          <p:cNvPicPr/>
          <p:nvPr/>
        </p:nvPicPr>
        <p:blipFill>
          <a:blip r:embed="rId7"/>
          <a:stretch/>
        </p:blipFill>
        <p:spPr>
          <a:xfrm>
            <a:off x="3276720" y="4495680"/>
            <a:ext cx="2706480" cy="1752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85840" y="17524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ENTRY REQUIRE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280" y="2438280"/>
            <a:ext cx="8763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A passport is the only reliable &amp; universally accepted travel /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identification document available for the purpose of travel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Group  Leaders should carry a “School Letter” printed on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school letterhead, a copy of the Participant List, a copy of all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Reservation Forms and a Parental/Legal Guardian Travel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Consent Form for all participant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All passports must be valid for at least six (6) months beyond the conclusion of the  trip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American / British / Canadian Passports do NOT require a visa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Travelers of other nationalities must check if a visa is required with authorities of all destinations on your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           </a:t>
            </a: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itinerary - INCLUDING flight entry points prior to final destination (example via England, via United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           </a:t>
            </a: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States, via Canada etc.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Entry Requirement for minors (under 18 years old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In addition to a valid passport &amp; any applicable visas they should have a signed Parental/Legal Guardia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           </a:t>
            </a: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Travel Consent Form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Documents and Settings\jennifer\Local Settings\Temporary Internet Files\Content.IE5\7HLQ0HB1\MP900442382[1].jpg"/>
          <p:cNvPicPr/>
          <p:nvPr/>
        </p:nvPicPr>
        <p:blipFill>
          <a:blip r:embed="rId2"/>
          <a:stretch/>
        </p:blipFill>
        <p:spPr>
          <a:xfrm>
            <a:off x="380880" y="1981080"/>
            <a:ext cx="3102120" cy="1905120"/>
          </a:xfrm>
          <a:prstGeom prst="rect">
            <a:avLst/>
          </a:prstGeom>
          <a:ln w="648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4648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TRAVEL INSURANC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2437920"/>
            <a:ext cx="86104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INSURANCE PROGRAM OPTION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OPTION A: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Basic Group Program</a:t>
            </a: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0" i="1" lang="en-US" sz="1600" spc="-1" strike="noStrike">
                <a:solidFill>
                  <a:srgbClr val="1f497d"/>
                </a:solidFill>
                <a:latin typeface="Calibri"/>
              </a:rPr>
              <a:t>Emergency Medical and Cancell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OPTION B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: Individual Deluxe Upgrade</a:t>
            </a: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d $50 p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0" i="1" lang="en-US" sz="1600" spc="-1" strike="noStrike">
                <a:solidFill>
                  <a:srgbClr val="1f497d"/>
                </a:solidFill>
                <a:latin typeface="Calibri"/>
              </a:rPr>
              <a:t>Basic Package + additional benefit and higher cover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OPTION C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 Individual Ultimate Upgrade</a:t>
            </a: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d $150 pp*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0" i="1" lang="en-US" sz="1600" spc="-1" strike="noStrike">
                <a:solidFill>
                  <a:srgbClr val="1f497d"/>
                </a:solidFill>
                <a:latin typeface="Calibri"/>
              </a:rPr>
              <a:t>Deluxe Package + No-Reason Cancellation &amp; Job Loss Prote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**Ultimate Program is not eligible for NY, PA, IN &amp; WA State resid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Cost of an Insurance Upgrade must be paid at the same time as the initial depos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Travel Insurance Package is supplied by Travel Gu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Please refer to the supplied Quick Chart for more in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http://www.goodtimetravel.net/images/TG_Logo.jpg"/>
          <p:cNvPicPr/>
          <p:nvPr/>
        </p:nvPicPr>
        <p:blipFill>
          <a:blip r:embed="rId2"/>
          <a:stretch/>
        </p:blipFill>
        <p:spPr>
          <a:xfrm>
            <a:off x="6400800" y="2057400"/>
            <a:ext cx="2068560" cy="11174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3733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TO JOIN THIS TR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240" y="25909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-238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omplete each of the following forms (1 set per participa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Prométour Reservation For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Prométour Insurance For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Prometour Payment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and submit to your Group Leader along with your pa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C:\Documents and Settings\jennifer\Local Settings\Temporary Internet Files\Content.IE5\7HLQ0HB1\MC900240351[1].wmf"/>
          <p:cNvPicPr/>
          <p:nvPr/>
        </p:nvPicPr>
        <p:blipFill>
          <a:blip r:embed="rId2"/>
          <a:stretch/>
        </p:blipFill>
        <p:spPr>
          <a:xfrm>
            <a:off x="6324480" y="1905120"/>
            <a:ext cx="25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72200" y="19807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FRANCE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-360" y="4572000"/>
            <a:ext cx="3352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 EXPERIE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 LIFETIM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54355030_IMGP6259"/>
          <p:cNvPicPr/>
          <p:nvPr/>
        </p:nvPicPr>
        <p:blipFill>
          <a:blip r:embed="rId2"/>
          <a:stretch/>
        </p:blipFill>
        <p:spPr>
          <a:xfrm>
            <a:off x="3429000" y="4267080"/>
            <a:ext cx="2409840" cy="2057400"/>
          </a:xfrm>
          <a:prstGeom prst="rect">
            <a:avLst/>
          </a:prstGeom>
          <a:ln w="9360">
            <a:solidFill>
              <a:srgbClr val="1f497d"/>
            </a:solidFill>
            <a:round/>
          </a:ln>
        </p:spPr>
      </p:pic>
      <p:pic>
        <p:nvPicPr>
          <p:cNvPr id="143" name="Picture 7" descr="p10carnaval"/>
          <p:cNvPicPr/>
          <p:nvPr/>
        </p:nvPicPr>
        <p:blipFill>
          <a:blip r:embed="rId3"/>
          <a:stretch/>
        </p:blipFill>
        <p:spPr>
          <a:xfrm>
            <a:off x="228600" y="1905120"/>
            <a:ext cx="2666880" cy="2361960"/>
          </a:xfrm>
          <a:prstGeom prst="rect">
            <a:avLst/>
          </a:prstGeom>
          <a:ln w="9360">
            <a:solidFill>
              <a:srgbClr val="1f497d"/>
            </a:solidFill>
            <a:round/>
          </a:ln>
        </p:spPr>
      </p:pic>
      <p:pic>
        <p:nvPicPr>
          <p:cNvPr id="144" name="Picture 6" descr="800px-Chateau_Frontenac_cds"/>
          <p:cNvPicPr/>
          <p:nvPr/>
        </p:nvPicPr>
        <p:blipFill>
          <a:blip r:embed="rId4"/>
          <a:stretch/>
        </p:blipFill>
        <p:spPr>
          <a:xfrm>
            <a:off x="6400800" y="3809880"/>
            <a:ext cx="2476440" cy="16542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45" name="Picture 10" descr="Chateau Frontenac Winter through a Gazebo"/>
          <p:cNvPicPr/>
          <p:nvPr/>
        </p:nvPicPr>
        <p:blipFill>
          <a:blip r:embed="rId5"/>
          <a:stretch/>
        </p:blipFill>
        <p:spPr>
          <a:xfrm>
            <a:off x="3505320" y="1797120"/>
            <a:ext cx="2590560" cy="2165400"/>
          </a:xfrm>
          <a:prstGeom prst="rect">
            <a:avLst/>
          </a:prstGeom>
          <a:ln w="9360">
            <a:solidFill>
              <a:srgbClr val="1f497d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10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76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17375e"/>
                </a:solidFill>
                <a:latin typeface="Calibri"/>
                <a:ea typeface="Arial"/>
              </a:rPr>
              <a:t>TRIP T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4f81bd"/>
                </a:solidFill>
                <a:latin typeface="Calibri"/>
                <a:ea typeface="Arial"/>
              </a:rPr>
              <a:t>F</a:t>
            </a:r>
            <a:r>
              <a:rPr b="1" lang="en-CA" sz="4000" spc="-1" strike="noStrike">
                <a:solidFill>
                  <a:srgbClr val="ff0000"/>
                </a:solidFill>
                <a:latin typeface="Calibri"/>
                <a:ea typeface="Arial"/>
              </a:rPr>
              <a:t>R</a:t>
            </a:r>
            <a:r>
              <a:rPr b="1" lang="en-CA" sz="4000" spc="-1" strike="noStrike">
                <a:solidFill>
                  <a:srgbClr val="4f81bd"/>
                </a:solidFill>
                <a:latin typeface="Calibri"/>
                <a:ea typeface="Arial"/>
              </a:rPr>
              <a:t>A</a:t>
            </a:r>
            <a:r>
              <a:rPr b="1" lang="en-CA" sz="4000" spc="-1" strike="noStrike">
                <a:solidFill>
                  <a:srgbClr val="ff0000"/>
                </a:solidFill>
                <a:latin typeface="Calibri"/>
                <a:ea typeface="Arial"/>
              </a:rPr>
              <a:t>N</a:t>
            </a:r>
            <a:r>
              <a:rPr b="1" lang="en-CA" sz="4000" spc="-1" strike="noStrike">
                <a:solidFill>
                  <a:srgbClr val="4f81bd"/>
                </a:solidFill>
                <a:latin typeface="Calibri"/>
                <a:ea typeface="Arial"/>
              </a:rPr>
              <a:t>C</a:t>
            </a:r>
            <a:r>
              <a:rPr b="1" lang="en-CA" sz="4000" spc="-1" strike="noStrike">
                <a:solidFill>
                  <a:srgbClr val="ff0000"/>
                </a:solidFill>
                <a:latin typeface="Calibri"/>
                <a:ea typeface="Arial"/>
              </a:rPr>
              <a:t>E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bull.JPG"/>
          <p:cNvPicPr/>
          <p:nvPr/>
        </p:nvPicPr>
        <p:blipFill>
          <a:blip r:embed="rId2"/>
          <a:stretch/>
        </p:blipFill>
        <p:spPr>
          <a:xfrm>
            <a:off x="1403280" y="3276720"/>
            <a:ext cx="2603520" cy="20826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47" name="Content Placeholder 2"/>
          <p:cNvSpPr/>
          <p:nvPr/>
        </p:nvSpPr>
        <p:spPr>
          <a:xfrm>
            <a:off x="457200" y="5791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WEDNESDAY FEBRUARY 15 – FRIDAY FEBRUARY 24,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bull.JPG"/>
          <p:cNvPicPr/>
          <p:nvPr/>
        </p:nvPicPr>
        <p:blipFill>
          <a:blip r:embed="rId3"/>
          <a:stretch/>
        </p:blipFill>
        <p:spPr>
          <a:xfrm>
            <a:off x="5227560" y="3276720"/>
            <a:ext cx="2879640" cy="21571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http://lrd.yahooapis.com/_ylc=X3oDMTVjOGFwcDZtBF9TAzIwMjMxNTI3MDIEYXBwaWQDT05XMUVsclYzNEVNZFNyWDVaTFcyNmZWcTZITlBqREF6T2dZWGtwZjRmUXZZdmdNQUZIVE5Uc05fdDZ1MUFMM0d0ajYEY2xpZW50A2Jvc3MEc2VydmljZQNCT1NTBHNsawN0aXRsZQRzcmNwdmlkA3Y0YXVaR0tJY3JwY1JnS3V6RXV0eGZDUDBDdmVKVXlkR1FNQURvNVM-/SIG=11gagtkob/**http%3A/www.rondapiee.com/Imagenes/Ronda.jpg"/>
          <p:cNvPicPr/>
          <p:nvPr/>
        </p:nvPicPr>
        <p:blipFill>
          <a:blip r:embed="rId1"/>
          <a:stretch/>
        </p:blipFill>
        <p:spPr>
          <a:xfrm>
            <a:off x="4952880" y="1828800"/>
            <a:ext cx="3019680" cy="20574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50" name="Picture 6" descr="Prometour Banner (original).bmp"/>
          <p:cNvPicPr/>
          <p:nvPr/>
        </p:nvPicPr>
        <p:blipFill>
          <a:blip r:embed="rId2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rondahomes.info/webs/rondahomes/imagenes/ronda1.jpg"/>
          <p:cNvPicPr/>
          <p:nvPr/>
        </p:nvPicPr>
        <p:blipFill>
          <a:blip r:embed="rId3"/>
          <a:stretch/>
        </p:blipFill>
        <p:spPr>
          <a:xfrm>
            <a:off x="1338120" y="1870200"/>
            <a:ext cx="2962440" cy="19746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4952880" y="4191120"/>
            <a:ext cx="2971800" cy="213336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pic>
        <p:nvPicPr>
          <p:cNvPr id="53" name="Picture 7" descr=""/>
          <p:cNvPicPr/>
          <p:nvPr/>
        </p:nvPicPr>
        <p:blipFill>
          <a:blip r:embed="rId5"/>
          <a:stretch/>
        </p:blipFill>
        <p:spPr>
          <a:xfrm>
            <a:off x="1303200" y="4246560"/>
            <a:ext cx="3032280" cy="202248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sp>
        <p:nvSpPr>
          <p:cNvPr id="54" name="TextBox 6"/>
          <p:cNvSpPr/>
          <p:nvPr/>
        </p:nvSpPr>
        <p:spPr>
          <a:xfrm>
            <a:off x="152280" y="213372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This could be you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8"/>
          <p:cNvSpPr/>
          <p:nvPr/>
        </p:nvSpPr>
        <p:spPr>
          <a:xfrm>
            <a:off x="609480" y="29718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50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50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7760" y="1752480"/>
            <a:ext cx="5562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Y TAKE AN EDUCATIONAL TOU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37339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Brings the classroom alive with “hands-on” experience with the language &amp; cul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It develops heightened interest in lear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Students gain valuable life skills through independent explo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Opens acceptance to other cultures &amp; ways of lif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Reinforces lessons tau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Great enhancement on college applications &amp; resu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Most important of all, it’s fun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raftshop"/>
          <p:cNvPicPr/>
          <p:nvPr/>
        </p:nvPicPr>
        <p:blipFill>
          <a:blip r:embed="rId2"/>
          <a:stretch/>
        </p:blipFill>
        <p:spPr>
          <a:xfrm>
            <a:off x="457200" y="1893960"/>
            <a:ext cx="2301840" cy="1544400"/>
          </a:xfrm>
          <a:prstGeom prst="rect">
            <a:avLst/>
          </a:prstGeom>
          <a:ln w="9360">
            <a:solidFill>
              <a:srgbClr val="1f497d"/>
            </a:solidFill>
            <a:round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WHY TRAVEL WITH PROMÉTOU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514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Over 18 years in the busi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Experience with over 500 groups annua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Offices in Montreal (Canada), Paris (France) &amp; Malaga (Spa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Your group is never comb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ustomized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Guaranteed date of depar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Authent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All inclusive pricing (no small pri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No late payment or registration f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One point of cont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DSC_8837"/>
          <p:cNvPicPr/>
          <p:nvPr/>
        </p:nvPicPr>
        <p:blipFill>
          <a:blip r:embed="rId2"/>
          <a:srcRect l="16187" t="0" r="0" b="22242"/>
          <a:stretch/>
        </p:blipFill>
        <p:spPr>
          <a:xfrm>
            <a:off x="7238880" y="3657600"/>
            <a:ext cx="1143000" cy="1593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181480" y="5257800"/>
            <a:ext cx="343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1f497d"/>
                </a:solidFill>
                <a:latin typeface="Calibri"/>
              </a:rPr>
              <a:t>Our Prométour Tour Project Mana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Calibri"/>
              </a:rPr>
              <a:t>Jennifer Page | jennifer.page@prometou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 514-848-7292 ext. 211 | Fax 1-514-848-02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 1-800-304-9446 (USA) or 1-800-657-7754 (C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www.prometou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PRACTICE WHAT YOU TEAC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8288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Exchange Progra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2437920"/>
            <a:ext cx="5791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Day 2 (Thursday February 16) – Day 7 (Tuesday February 2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Different than just a tour program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7560" indent="-272880">
              <a:spcBef>
                <a:spcPts val="400"/>
              </a:spcBef>
              <a:buClr>
                <a:srgbClr val="1f49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Home st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7560" indent="-272880">
              <a:spcBef>
                <a:spcPts val="400"/>
              </a:spcBef>
              <a:buClr>
                <a:srgbClr val="1f49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Sch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7560" indent="-272880">
              <a:spcBef>
                <a:spcPts val="400"/>
              </a:spcBef>
              <a:buClr>
                <a:srgbClr val="1f49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Cultural experi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7560" indent="-272880">
              <a:spcBef>
                <a:spcPts val="400"/>
              </a:spcBef>
              <a:buClr>
                <a:srgbClr val="1f49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Tour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497d"/>
                </a:solidFill>
                <a:latin typeface="Calibri"/>
              </a:rPr>
              <a:t>Cultural Benef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Living with a host-family, French becomes a living and worki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language. Eat French food (at the times that the French eat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meet French people and have an excellent opportunity to practi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French in real-life situa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bild_prost"/>
          <p:cNvPicPr/>
          <p:nvPr/>
        </p:nvPicPr>
        <p:blipFill>
          <a:blip r:embed="rId2"/>
          <a:stretch/>
        </p:blipFill>
        <p:spPr>
          <a:xfrm>
            <a:off x="6324480" y="1752480"/>
            <a:ext cx="2273400" cy="1524240"/>
          </a:xfrm>
          <a:prstGeom prst="rect">
            <a:avLst/>
          </a:prstGeom>
          <a:ln w="9360">
            <a:solidFill>
              <a:srgbClr val="1f497d"/>
            </a:solidFill>
            <a:round/>
          </a:ln>
        </p:spPr>
      </p:pic>
      <p:pic>
        <p:nvPicPr>
          <p:cNvPr id="69" name="Picture 11" descr="http://lrd.yahooapis.com/_ylc=X3oDMTVjcXJjNXJlBF9TAzIwMjMxNTI3MDIEYXBwaWQDT05XMUVsclYzNEVNZFNyWDVaTFcyNmZWcTZITlBqREF6T2dZWGtwZjRmUXZZdmdNQUZIVE5Uc05fdDZ1MUFMM0d0ajYEY2xpZW50A2Jvc3MEc2VydmljZQNCT1NTBHNsawN0aXRsZQRzcmNwdmlkA2xrcERIV0tJY3JxUXFUOXppZUVXckU2SzBDdmVKa3lnbDJFQURnMjE-/SIG=12lqim4if/**http%3A/images.ownersdirect.co.uk/estepona-home-spanish-rentals-inside-349989.jpg"/>
          <p:cNvPicPr/>
          <p:nvPr/>
        </p:nvPicPr>
        <p:blipFill>
          <a:blip r:embed="rId3"/>
          <a:stretch/>
        </p:blipFill>
        <p:spPr>
          <a:xfrm>
            <a:off x="3733920" y="3276720"/>
            <a:ext cx="2286000" cy="1574640"/>
          </a:xfrm>
          <a:prstGeom prst="rect">
            <a:avLst/>
          </a:prstGeom>
          <a:ln w="9360">
            <a:solidFill>
              <a:srgbClr val="1f497d"/>
            </a:solidFill>
            <a:round/>
          </a:ln>
        </p:spPr>
      </p:pic>
      <p:pic>
        <p:nvPicPr>
          <p:cNvPr id="70" name="Picture 15" descr="http://www.rondapiee.org/website/images/philipp-langer-135.gif"/>
          <p:cNvPicPr/>
          <p:nvPr/>
        </p:nvPicPr>
        <p:blipFill>
          <a:blip r:embed="rId4"/>
          <a:stretch/>
        </p:blipFill>
        <p:spPr>
          <a:xfrm>
            <a:off x="6400800" y="4648320"/>
            <a:ext cx="2362320" cy="15332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TINE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21337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RLÉ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http://www.leptitbonheur.qc.ca/images/pecheblanche.jpg"/>
          <p:cNvPicPr/>
          <p:nvPr/>
        </p:nvPicPr>
        <p:blipFill>
          <a:blip r:embed="rId2"/>
          <a:stretch/>
        </p:blipFill>
        <p:spPr>
          <a:xfrm>
            <a:off x="6248520" y="2209680"/>
            <a:ext cx="2489040" cy="1866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2819520" cy="306252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pic>
        <p:nvPicPr>
          <p:cNvPr id="76" name="Picture 14" descr=""/>
          <p:cNvPicPr/>
          <p:nvPr/>
        </p:nvPicPr>
        <p:blipFill>
          <a:blip r:embed="rId4"/>
          <a:stretch/>
        </p:blipFill>
        <p:spPr>
          <a:xfrm>
            <a:off x="3429000" y="1752480"/>
            <a:ext cx="2514600" cy="188604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pic>
        <p:nvPicPr>
          <p:cNvPr id="77" name="Picture 16" descr="http://lrd.yahooapis.com/_ylc=X3oDMTVjMWttNHVkBF9TAzIwMjMxNTI3MDIEYXBwaWQDT05XMUVsclYzNEVNZFNyWDVaTFcyNmZWcTZITlBqREF6T2dZWGtwZjRmUXZZdmdNQUZIVE5Uc05fdDZ1MUFMM0d0ajYEY2xpZW50A2Jvc3MEc2VydmljZQNCT1NTBHNsawN0aXRsZQRzcmNwdmlkA3NPQ0JPRWdlQXUzblhoVDNha1d1RjFIUzBDdmVKVXl0N1p3QUIuOUg-/SIG=125g4tpna/**http%3A/www.phil.uu.nl/staff/rob/2007/i/velazquez-las-meninas.jpg"/>
          <p:cNvPicPr/>
          <p:nvPr/>
        </p:nvPicPr>
        <p:blipFill>
          <a:blip r:embed="rId5"/>
          <a:stretch/>
        </p:blipFill>
        <p:spPr>
          <a:xfrm>
            <a:off x="3505320" y="3886200"/>
            <a:ext cx="2438280" cy="27432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8" name="Picture 13" descr="http://www.leptitbonheur.qc.ca/images/pecheblanche.jpg"/>
          <p:cNvPicPr/>
          <p:nvPr/>
        </p:nvPicPr>
        <p:blipFill>
          <a:blip r:embed="rId6"/>
          <a:stretch/>
        </p:blipFill>
        <p:spPr>
          <a:xfrm>
            <a:off x="6248520" y="4343400"/>
            <a:ext cx="2438280" cy="1828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9" name="AutoShape 2"/>
          <p:cNvSpPr/>
          <p:nvPr/>
        </p:nvSpPr>
        <p:spPr>
          <a:xfrm>
            <a:off x="0" y="-136440"/>
            <a:ext cx="6095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TINE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920" y="2133720"/>
            <a:ext cx="25905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1f497d"/>
                </a:solidFill>
                <a:latin typeface="Calibri"/>
              </a:rPr>
              <a:t>CHÂTEAU VERSAIL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2544840" cy="182880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pic>
        <p:nvPicPr>
          <p:cNvPr id="84" name="Picture 16" descr="http://lrd.yahooapis.com/_ylc=X3oDMTVjMWttNHVkBF9TAzIwMjMxNTI3MDIEYXBwaWQDT05XMUVsclYzNEVNZFNyWDVaTFcyNmZWcTZITlBqREF6T2dZWGtwZjRmUXZZdmdNQUZIVE5Uc05fdDZ1MUFMM0d0ajYEY2xpZW50A2Jvc3MEc2VydmljZQNCT1NTBHNsawN0aXRsZQRzcmNwdmlkA3NPQ0JPRWdlQXUzblhoVDNha1d1RjFIUzBDdmVKVXl0N1p3QUIuOUg-/SIG=125g4tpna/**http%3A/www.phil.uu.nl/staff/rob/2007/i/velazquez-las-meninas.jpg"/>
          <p:cNvPicPr/>
          <p:nvPr/>
        </p:nvPicPr>
        <p:blipFill>
          <a:blip r:embed="rId3"/>
          <a:stretch/>
        </p:blipFill>
        <p:spPr>
          <a:xfrm>
            <a:off x="3276720" y="2209680"/>
            <a:ext cx="2943000" cy="181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5" name="Picture 2" descr="http://lrd.yahooapis.com/_ylc=X3oDMTVjbnNmaWQ1BF9TAzIwMjMxNTI3MDIEYXBwaWQDT05XMUVsclYzNEVNZFNyWDVaTFcyNmZWcTZITlBqREF6T2dZWGtwZjRmUXZZdmdNQUZIVE5Uc05fdDZ1MUFMM0d0ajYEY2xpZW50A2Jvc3MEc2VydmljZQNCT1NTBHNsawN0aXRsZQRzcmNwdmlkA1F4dzE4bUtJY3JwcDRsMlM2X1R3a2psaTBDdmVLMHl1S2FNQUJtbnM-/SIG=1229kk53m/**http%3A/farm4.static.flickr.com/3403/3205664388_575745c06f.jpg"/>
          <p:cNvPicPr/>
          <p:nvPr/>
        </p:nvPicPr>
        <p:blipFill>
          <a:blip r:embed="rId4"/>
          <a:stretch/>
        </p:blipFill>
        <p:spPr>
          <a:xfrm>
            <a:off x="230040" y="4662360"/>
            <a:ext cx="2589480" cy="1725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6" name="Picture 4" descr="File:Versailles Chapel - July 2006 edi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05720" y="1752480"/>
            <a:ext cx="1752480" cy="2352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7" name="Picture 6" descr="The Queen's bedroom © EPV"/>
          <p:cNvPicPr/>
          <p:nvPr/>
        </p:nvPicPr>
        <p:blipFill>
          <a:blip r:embed="rId7"/>
          <a:stretch/>
        </p:blipFill>
        <p:spPr>
          <a:xfrm>
            <a:off x="6629400" y="4267080"/>
            <a:ext cx="1866960" cy="2286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8" name="Picture 8" descr="The Hall of mirrors © EPV"/>
          <p:cNvPicPr/>
          <p:nvPr/>
        </p:nvPicPr>
        <p:blipFill>
          <a:blip r:embed="rId8"/>
          <a:stretch/>
        </p:blipFill>
        <p:spPr>
          <a:xfrm>
            <a:off x="3200400" y="4419720"/>
            <a:ext cx="2971800" cy="1868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TINE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21337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1f497d"/>
                </a:solidFill>
                <a:latin typeface="Calibri"/>
              </a:rPr>
              <a:t>PA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7543800" y="38098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Champs  Elys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2362320" cy="177192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sp>
        <p:nvSpPr>
          <p:cNvPr id="94" name="TextBox 6"/>
          <p:cNvSpPr/>
          <p:nvPr/>
        </p:nvSpPr>
        <p:spPr>
          <a:xfrm>
            <a:off x="4648320" y="45720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Musée Louv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File:PlazaMayorMadri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2209680"/>
            <a:ext cx="2590920" cy="1943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96" name="TextBox 6"/>
          <p:cNvSpPr/>
          <p:nvPr/>
        </p:nvSpPr>
        <p:spPr>
          <a:xfrm>
            <a:off x="457200" y="5410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tre D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thm-a02.yimg.com/nimage/def292c29b44e0a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4419720"/>
            <a:ext cx="1103040" cy="16002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8" name="Picture 4" descr="File:Paris Tuilerie un bassin et le Louvre.jpg"/>
          <p:cNvPicPr/>
          <p:nvPr/>
        </p:nvPicPr>
        <p:blipFill>
          <a:blip r:embed="rId7"/>
          <a:stretch/>
        </p:blipFill>
        <p:spPr>
          <a:xfrm>
            <a:off x="6324480" y="1676520"/>
            <a:ext cx="2667240" cy="2082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9" name="Picture 4" descr="File:Paris Tuilerie un bassin et le Louvre.jpg"/>
          <p:cNvPicPr/>
          <p:nvPr/>
        </p:nvPicPr>
        <p:blipFill>
          <a:blip r:embed="rId8"/>
          <a:stretch/>
        </p:blipFill>
        <p:spPr>
          <a:xfrm>
            <a:off x="6324480" y="4343400"/>
            <a:ext cx="2590920" cy="1846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0" name="TextBox 6"/>
          <p:cNvSpPr/>
          <p:nvPr/>
        </p:nvSpPr>
        <p:spPr>
          <a:xfrm>
            <a:off x="68580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cré Coeur Montmar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3:58:43Z</dcterms:created>
  <dc:creator>Janlyn</dc:creator>
  <dc:description/>
  <dc:language>en-US</dc:language>
  <cp:lastModifiedBy>Windows User</cp:lastModifiedBy>
  <dcterms:modified xsi:type="dcterms:W3CDTF">2011-10-13T18:22:36Z</dcterms:modified>
  <cp:revision>283</cp:revision>
  <dc:subject/>
  <dc:title>SPAIN 2005</dc:title>
</cp:coreProperties>
</file>